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994-04BD-4C92-944D-A2F34C62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446-2BF4-478A-8DCC-01D37C9F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07E-7B40-4FD9-A002-26D3DBBE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5DA-7705-4A3E-9CB1-3CCD3A4F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3DB-94F7-4F7A-B992-D9899554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836-4457-4499-928C-0A0BBA3C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EFC-05B0-4E8F-AFA4-17AD60FA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43B-DEA4-4E40-B63A-FF00BDCA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DC9-CB76-4F63-A969-FB8F8B67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82B-AD14-4D81-ABFC-C7377F0F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CE9-3B1D-4DC6-BF47-E5A0EF4A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A11-C557-4AEF-8C94-5C6CFC02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BC84-2317-4385-8105-3C016ABC8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12000" y="4508640"/>
            <a:ext cx="2952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signing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ith Sketchup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189000"/>
            <a:ext cx="756108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arning Wi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olution Room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4076640"/>
            <a:ext cx="4537080" cy="23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shap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ildings would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 like to live in 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4400640" cy="4867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79280" y="692280"/>
            <a:ext cx="331308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id you know that objects look very different when you look at them from different plac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ou can look at them from behind and above and underneath and from the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is called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Perspec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8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5334120" cy="4334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6084720" y="981000"/>
            <a:ext cx="2808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e were learning about 3 D shapes. D stands for dimensions lik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ow high, how deep and how w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e wanted to design some new building shapes to help us learn more about Perspective and Dimen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ur teacher found googl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ketch Up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for us to work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Here is some of ou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76720" y="93600"/>
            <a:ext cx="4067280" cy="3902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995560"/>
            <a:ext cx="4932360" cy="3862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468360" y="765000"/>
            <a:ext cx="40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yl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42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 like sketch up. My best is the yellow one because the roof looks different from the other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260280"/>
            <a:ext cx="403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Juliean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5163840" cy="459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395280" y="2133720"/>
            <a:ext cx="3024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 drew a door and windows in the front but I didn’t have enough time to turn it round. Dylan gave me the idea. It was easy I asked him when I got stuck using the toolb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’m going to use the pail to colour it in so you can inside it through. I’m helping people and I think I could design better with more practice because I’ve got good ideas. I’d like to do a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404640"/>
            <a:ext cx="345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uk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92360" y="2133720"/>
            <a:ext cx="5324760" cy="4362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24000" y="1989000"/>
            <a:ext cx="28796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First I drew a big square for the base then I pulled up the base to make the sides. There wasn’t a tool for a triangle so I got the pencil and drew two triangles for the roof. I went to backgrounds to make the bricks. My window and door sticks out because I designed it that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Next time I think I could build a tower that you can walk all around, like my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47628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r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10600" cy="4792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924360" y="333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 decided to try designing a camera. I used a square for the base and  then I made a circle. When you pull a circle up to give it sides you make a cyl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47628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Jessi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24720" cy="4360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924360" y="260280"/>
            <a:ext cx="48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 made a camera. I needed a square and a circle but I pulled then up to give them sides so they were a cylinder and a rectangle or oblong. They are 3 D shapes because they have length, they have width, and they have dep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4437000"/>
            <a:ext cx="7056360" cy="936720"/>
          </a:xfrm>
          <a:prstGeom prst="rightArrow">
            <a:avLst>
              <a:gd name="adj1" fmla="val 50000"/>
              <a:gd name="adj2" fmla="val 188326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2708280"/>
            <a:ext cx="433440" cy="2952720"/>
          </a:xfrm>
          <a:prstGeom prst="upArrow">
            <a:avLst>
              <a:gd name="adj1" fmla="val 50000"/>
              <a:gd name="adj2" fmla="val 17030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5734080"/>
            <a:ext cx="504720" cy="863640"/>
          </a:xfrm>
          <a:prstGeom prst="downArrow">
            <a:avLst>
              <a:gd name="adj1" fmla="val 50000"/>
              <a:gd name="adj2" fmla="val 4277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68360" y="765000"/>
            <a:ext cx="813600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 have only starte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earning about perspective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ut it's amazing to se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our buildin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look like from different view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 want to try lot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2:24:15Z</dcterms:created>
  <dc:creator>Ministry of Education</dc:creator>
  <dc:description/>
  <dc:language>en-US</dc:language>
  <cp:lastModifiedBy>Ministry of Education</cp:lastModifiedBy>
  <dcterms:modified xsi:type="dcterms:W3CDTF">2009-10-21T23:29:22Z</dcterms:modified>
  <cp:revision>2</cp:revision>
  <dc:subject/>
  <dc:title>Slide 1</dc:title>
</cp:coreProperties>
</file>